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8FE8-646C-4FDE-A6C1-06A347509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11E9-2F01-41D3-A713-2C3CBBC3C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3AD2-F51A-451A-BA42-7BEE5B6E4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0D4C-309C-4607-863E-3A2AB2F03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7E22-0613-42A0-A17A-44C318ED4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91CD-DA59-47FE-AB77-55ED8A2E5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BA08-77A8-44BB-9A1C-C7B7AB083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4F80-62CD-4D11-8037-BA4DF3868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5520-DFF1-447B-8BEA-E63A68511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B9CA-D172-4492-B66E-D6A91EDB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6158-3EC3-4BCE-8716-13AF2660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11A5-F9C0-4B07-A025-CED273BF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02284-3F09-4D4E-BA04-0F3B59F04F48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Mis documentos\Sin título-1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Mis documentos\Sin título-1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Mis documentos\Sin título-11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Mis documentos\Sin título-12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Mis documentos\Sin título-1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Mis documentos\Sin título-1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Mis documentos\Sin título-15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Mis documentos\Sin título-16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Mis documentos\Sin título-17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Mis documentos\Sin título-18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Mis documentos\Sin título-19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Mis documentos\Sin título-2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Mis documentos\Sin título-2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Mis documentos\Sin título-21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Mis documentos\Sin título-22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Mis documentos\Sin título-2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Mis documentos\Sin título-2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Mis documentos\Sin título-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Mis documentos\Sin título-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Mis documentos\Sin título-5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Mis documentos\Sin título-6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Mis documentos\Sin título-7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Mis documentos\Sin título-8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Mis documentos\Sin título-9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4T13:34:26Z</dcterms:created>
  <dc:creator>Grupo Editorial</dc:creator>
  <dc:description/>
  <dc:language>en-US</dc:language>
  <cp:lastModifiedBy>TORRES</cp:lastModifiedBy>
  <dcterms:modified xsi:type="dcterms:W3CDTF">2010-12-18T22:26:58Z</dcterms:modified>
  <cp:revision>1</cp:revision>
  <dc:subject/>
  <dc:title>Sin título de diapositiva</dc:title>
</cp:coreProperties>
</file>